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58E-E052-46B4-A419-CDFC6FAC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E55-8C25-4C7B-87E2-D4ECB109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4C6-56A4-4BDF-BF56-1CFB5C9F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986-90DB-4588-9FBC-89383625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59D-06F1-45F7-ADEB-08D46FC2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288-680F-4CFB-9670-454AF3BB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DF8-B847-489D-A7D8-2A4B7CF4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BF7-C013-4F45-88A6-61D04346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054-9DF0-4AD2-B087-8EE01CFB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73C-CA30-43C3-8613-70E45E26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EB2-BE74-44C0-A5A2-E6A727E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977-D9D5-4329-9F85-4B999CA6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336C-10DD-4986-84EC-D15EDEE8D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Se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ee shap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18000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ee triangl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1:42:45Z</dcterms:created>
  <dc:creator>Elisa Wern</dc:creator>
  <dc:description/>
  <dc:language>en-US</dc:language>
  <cp:lastModifiedBy>Elisa Wern</cp:lastModifiedBy>
  <dcterms:modified xsi:type="dcterms:W3CDTF">2005-10-06T17:11:15Z</dcterms:modified>
  <cp:revision>1</cp:revision>
  <dc:subject/>
  <dc:title>I See Shapes</dc:title>
</cp:coreProperties>
</file>